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2BE4-25E0-4FE6-94AC-D000A38E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C355-4C76-4424-9AD5-4B2D3D54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75D6-EB9C-4097-B32D-CC6A2CDB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29DF-163A-4D20-A6F0-4CD01B4B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6D3A-83FB-4C3B-95E0-736687D7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49BF-2131-40C3-BF49-DA6D264F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5D82-B6F2-4E11-936B-52856787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315E-D7EB-4092-A780-5C287955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8331-7719-4CD1-93D5-6DB0AA4F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34E3-3B96-4E87-8E4D-AED7BEDA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4808-855D-4A35-8F97-69C108D1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EA66-4011-497B-8445-2E902427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80E1-3598-4878-91C0-931BD2AFF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Comic Sans MS"/>
              </a:rPr>
              <a:t>Int 2 P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514600"/>
            <a:ext cx="79250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kills and Techn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Lesson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Wednesday 13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Janu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251460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Initial Tas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40160" y="31572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6 Week Programme of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1262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Comic Sans MS"/>
              </a:rPr>
              <a:t>Weeks 1 &amp; 2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:  Shadow practice and feed with no movement  (3 x 20 reps of bo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½ court g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Comic Sans MS"/>
              </a:rPr>
              <a:t>Weeks 3 &amp; 4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:  Feed with no movement and feed with movement (3 x 20 reps of bo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½ court g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Comic Sans MS"/>
              </a:rPr>
              <a:t>Weeks 5 &amp; 6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:  Feed with movement (3 x 20 reps) and continuous rally (3 x 2 mi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½ court g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Train 3 x per wee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opy this info. into page 26 of your course notes (change to suit your stage of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844640"/>
            <a:ext cx="81536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By the end of this lesson you should all kn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How to describe a programme of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Why changes or adaptations may have to be made to the programme you desig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What these changes/adaptations might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How to monitor the effectiveness of a programme of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40160" y="31572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Adaptations/Cha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10920" y="1628640"/>
            <a:ext cx="76928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Task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Write down 3 reasons why you think you may need to adapt or change your program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lso write down how you might do th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Time – 10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Monitoring Programme of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1989000"/>
            <a:ext cx="85122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ow do we monitor the effective of our P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raining di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Mid programme re-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ternal and external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Monitoring Programme of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50920" y="2060640"/>
            <a:ext cx="85122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raining diary – what would we put in our dia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-test – how would this highlight improve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Internal feedback – how would we use th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External feedback – how would we use th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NAB Part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457200" y="1828800"/>
            <a:ext cx="81532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 7 – How model performer &amp; stages of learning link to P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 8 – P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 9 – Adaptations/changes –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 10 – Adaptations/changes – Wh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 11 – Monitoring P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24000" y="1268280"/>
            <a:ext cx="8424720" cy="49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Part 3 of the NAB will take place under exam conditions on Wednesday 20</a:t>
            </a:r>
            <a:r>
              <a:rPr b="0" lang="en-GB" sz="28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 January so ensure that you are well prepared for t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You must get 60% in the NAB to pass.  If you fail you must do a re-sit and this can be time consum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PE Prelim – This will cover Preparation of the Body (hockey) and Skills &amp; Techniques (badmint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0:16:19Z</dcterms:created>
  <dc:creator>CarmichaelMA</dc:creator>
  <dc:description/>
  <dc:language>en-US</dc:language>
  <cp:lastModifiedBy>CARMICHAELMA</cp:lastModifiedBy>
  <dcterms:modified xsi:type="dcterms:W3CDTF">2010-01-12T14:35:26Z</dcterms:modified>
  <cp:revision>39</cp:revision>
  <dc:subject/>
  <dc:title>Intermediate PE</dc:title>
</cp:coreProperties>
</file>